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DEFF-A134-4689-901F-94CD3723C9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4934-7E20-493D-A669-583E1870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9D6B6-79F4-46CD-9ADF-2AE82942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8228-DDD0-4835-AF38-095985FCC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1FBA9-F9D9-4451-ABB9-7E972CA9BB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6E03A-54EF-4B1B-A932-DED9F80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4F7B-4C56-470B-B89F-3E64450F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42004-C301-4E31-B30D-BA7BB35B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676B-4FB2-464A-BBD2-FAAEF8CF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9A3D0-1C69-4A10-B75F-71D57F21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B76C5-1D5E-4DDD-88B9-5BF40212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756D-08DD-4C24-8625-ACC75B29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88B0A-403B-43CD-8B34-9BB2E1A4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DE651-3FA0-4B0E-B8CE-D1A37B2E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A0689-CCEB-405B-BC25-24970D8C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8D363-9693-46AC-8C4B-37EA294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9DEAF-ED59-4447-9FFF-1AD0915EE6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93B1-02D5-4D30-B066-B61949E8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E592-AAC8-45C5-B9AB-EAF57BA5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37D3-FE25-49C4-B8DB-52EDB468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E5CE-9E63-4808-A698-AB14A7B8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FE80-EE53-4777-867E-089BA5B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FBE8-79C0-4226-AFD7-C1548DF6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C4C7-66B7-4D82-BE01-4CD200B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608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2BA9B5E-65EC-41DA-9C43-DFEDEEF4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608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10 Pearson Education, Inc. Publishing as Prentice H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4A65F3F1-189B-458D-8757-3B8F37578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1640" y="434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rganizational Contex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, Structure, and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over.jpg"/>
          <p:cNvPicPr/>
          <p:nvPr/>
        </p:nvPicPr>
        <p:blipFill>
          <a:blip r:embed="rId1"/>
          <a:stretch/>
        </p:blipFill>
        <p:spPr>
          <a:xfrm>
            <a:off x="357120" y="2568600"/>
            <a:ext cx="260208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2C5DA-3C92-464D-AACB-56086B6B7B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s of Organization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organizations – group people performing similar activities in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rganizations – group people int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ject team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emporary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rganizations – create a dual hierarchy in which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unctions and project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qual promin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1956-2CE7-4B60-801E-92B440D774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9880" y="252000"/>
            <a:ext cx="84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4002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>
                      <a:noFill/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5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m’s design mainta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ters development of in-depth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career pa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eam members remain connected with their functional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>
                      <a:noFill/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 silo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k of customer foc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take lon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may be sub-optimiz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957C-E278-4655-88EC-69EFC99A4A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600200"/>
          <a:ext cx="8229600" cy="4467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94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anager sole autho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d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ecision-m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 of project management expe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ive to set up and maintain te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ce of loyalty to the project rather than the 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ool of specific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s unassigned at project 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E03DE-30A5-4F1D-BAD8-F0AA09F70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Structures for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29600" cy="4281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ited to dynamic environ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emphasis on project management and functional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coordination across functional un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izes scarc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 hierarchies mean two bo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tiation required in order to shar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rs caught between competing project &amp; functional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F952-531D-4170-82E1-8BA26A5ACB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vyweight Project Organiz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can sometimes gain tremendous benefit from creating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ully-dedicated proj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heed Corporation’s “Skunkwork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r authority exp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lignment abandoned in favor of market opportu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external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CB48-AA51-4970-AE38-B846A9991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anagement Off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zed units that oversee or improve the management of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center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details offloaded from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in project 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of lessons learned,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project management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8C74-79FB-411B-B31D-DCB93A83DD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s of P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station – monitoring an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tower – project management is a skill to be protected and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pool – maintain and provide a cadre of skilled project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B24A-0C47-4733-8240-1949A39B1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nwritte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u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behavior, or norms that are used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ape and guide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shared by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me subset of organiza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 and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aught to all new member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factors that affect cul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al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ar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organizational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c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8366-6A19-40E7-A278-D65EB3CDA6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Influ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rganizationa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in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7279-842A-46CD-A97D-F4BB55F590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 Affects Project Manag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commitment to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1284-CFC9-491E-87B2-FFD04C3754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s and Organizational 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management – the science of formulating, implementing and evaluating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ross-functional deci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 a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chieve it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bjec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vision and mission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ng, implementing and evalu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cross functiona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6C6A-BD37-41DE-961A-A9D836F0EE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opyright"/>
          <p:cNvPicPr/>
          <p:nvPr/>
        </p:nvPicPr>
        <p:blipFill>
          <a:blip r:embed="rId1"/>
          <a:stretch/>
        </p:blipFill>
        <p:spPr>
          <a:xfrm>
            <a:off x="0" y="2136600"/>
            <a:ext cx="9144000" cy="28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0FE8C-AC10-46CD-B9C9-ED62DEAF0C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s Reflec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58920" y="3716280"/>
          <a:ext cx="8229600" cy="2151000"/>
        </p:xfrm>
        <a:graphic>
          <a:graphicData uri="http://schemas.openxmlformats.org/drawingml/2006/table">
            <a:tbl>
              <a:tblPr/>
              <a:tblGrid>
                <a:gridCol w="4267080"/>
                <a:gridCol w="3962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irm wishing to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have a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velop products or process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reengineer products or proce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strategic direction or product portfolio configur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reate new product lin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ross-organizational communication &amp; 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install an enterprise IT syst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55"/>
          <p:cNvSpPr/>
          <p:nvPr/>
        </p:nvSpPr>
        <p:spPr>
          <a:xfrm>
            <a:off x="468360" y="1592280"/>
            <a:ext cx="752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ping ston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rporate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m’s strategic development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riving forc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ind proje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74569-B1BE-4B24-92FB-9CA8E3D31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onship of Strategic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1371600" y="1219320"/>
            <a:ext cx="5638680" cy="4419360"/>
            <a:chOff x="1371600" y="1219320"/>
            <a:chExt cx="5638680" cy="4419360"/>
          </a:xfrm>
        </p:grpSpPr>
        <p:sp>
          <p:nvSpPr>
            <p:cNvPr id="91" name="AutoShape 4"/>
            <p:cNvSpPr/>
            <p:nvPr/>
          </p:nvSpPr>
          <p:spPr>
            <a:xfrm>
              <a:off x="1371600" y="1219320"/>
              <a:ext cx="5638680" cy="4419360"/>
            </a:xfrm>
            <a:prstGeom prst="triangle">
              <a:avLst>
                <a:gd name="adj" fmla="val 50000"/>
              </a:avLst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3564000" y="22050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3348000" y="3537000"/>
              <a:ext cx="19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00360" y="494172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5003640" y="4941720"/>
              <a:ext cx="180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9"/>
            <p:cNvSpPr/>
            <p:nvPr/>
          </p:nvSpPr>
          <p:spPr>
            <a:xfrm>
              <a:off x="1871640" y="494172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0"/>
            <p:cNvSpPr/>
            <p:nvPr/>
          </p:nvSpPr>
          <p:spPr>
            <a:xfrm>
              <a:off x="2195640" y="4365720"/>
              <a:ext cx="3997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1"/>
            <p:cNvSpPr/>
            <p:nvPr/>
          </p:nvSpPr>
          <p:spPr>
            <a:xfrm>
              <a:off x="2951280" y="3176640"/>
              <a:ext cx="2484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3348000" y="4365720"/>
              <a:ext cx="0" cy="12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3"/>
            <p:cNvSpPr/>
            <p:nvPr/>
          </p:nvSpPr>
          <p:spPr>
            <a:xfrm>
              <a:off x="4824360" y="4365720"/>
              <a:ext cx="0" cy="125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8BB6-B901-40FD-9765-F68E0EC36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rs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l individuals or grou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ve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tive stak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oject and can potentially impact, eith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sitively or negative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s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of project stakeholder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31640" y="3608280"/>
            <a:ext cx="356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392720" y="3608280"/>
            <a:ext cx="4487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, political, consumer, and other interveno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E3F9-D99F-4C76-B2CB-5F87C8B91D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akeholder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76360" y="3753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3"/>
          <p:cNvGrpSpPr/>
          <p:nvPr/>
        </p:nvGrpSpPr>
        <p:grpSpPr>
          <a:xfrm>
            <a:off x="1116000" y="1449360"/>
            <a:ext cx="6948360" cy="4528800"/>
            <a:chOff x="1116000" y="1449360"/>
            <a:chExt cx="6948360" cy="4528800"/>
          </a:xfrm>
        </p:grpSpPr>
        <p:sp>
          <p:nvSpPr>
            <p:cNvPr id="108" name="Text Box 4"/>
            <p:cNvSpPr/>
            <p:nvPr/>
          </p:nvSpPr>
          <p:spPr>
            <a:xfrm>
              <a:off x="3456000" y="3537000"/>
              <a:ext cx="1476360" cy="785520"/>
            </a:xfrm>
            <a:prstGeom prst="rect">
              <a:avLst/>
            </a:prstGeom>
            <a:solidFill>
              <a:srgbClr val="fffff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5"/>
            <p:cNvSpPr/>
            <p:nvPr/>
          </p:nvSpPr>
          <p:spPr>
            <a:xfrm>
              <a:off x="1116000" y="202392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ther Functional Manag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6084720" y="1952640"/>
              <a:ext cx="16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ternal 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5435640" y="5192640"/>
              <a:ext cx="1476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1908000" y="5553000"/>
              <a:ext cx="14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0"/>
            <p:cNvSpPr/>
            <p:nvPr/>
          </p:nvSpPr>
          <p:spPr>
            <a:xfrm>
              <a:off x="6408720" y="35733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p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3384720" y="1449360"/>
              <a:ext cx="158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ent Organ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AutoShape 12"/>
            <p:cNvCxnSpPr>
              <a:stCxn id="106" idx="3"/>
              <a:endCxn id="108" idx="1"/>
            </p:cNvCxnSpPr>
            <p:nvPr/>
          </p:nvCxnSpPr>
          <p:spPr>
            <a:xfrm>
              <a:off x="2052360" y="3936600"/>
              <a:ext cx="1391040" cy="39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6" name="AutoShape 14"/>
            <p:cNvCxnSpPr>
              <a:stCxn id="108" idx="3"/>
              <a:endCxn id="113" idx="1"/>
            </p:cNvCxnSpPr>
            <p:nvPr/>
          </p:nvCxnSpPr>
          <p:spPr>
            <a:xfrm flipV="1">
              <a:off x="4944960" y="3893760"/>
              <a:ext cx="1464480" cy="468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7" name="AutoShape 15"/>
            <p:cNvCxnSpPr>
              <a:stCxn id="108" idx="0"/>
              <a:endCxn id="114" idx="2"/>
            </p:cNvCxnSpPr>
            <p:nvPr/>
          </p:nvCxnSpPr>
          <p:spPr>
            <a:xfrm flipH="1" flipV="1">
              <a:off x="4176360" y="2090520"/>
              <a:ext cx="18000" cy="14342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18" name="AutoShape 16"/>
            <p:cNvCxnSpPr/>
            <p:nvPr/>
          </p:nvCxnSpPr>
          <p:spPr>
            <a:xfrm>
              <a:off x="2555640" y="3033720"/>
              <a:ext cx="851400" cy="4658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19" name="Line 17"/>
            <p:cNvSpPr/>
            <p:nvPr/>
          </p:nvSpPr>
          <p:spPr>
            <a:xfrm flipV="1">
              <a:off x="4967280" y="2673360"/>
              <a:ext cx="104472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5003640" y="4400640"/>
              <a:ext cx="973440" cy="72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 flipV="1">
              <a:off x="2700360" y="4473720"/>
              <a:ext cx="1079640" cy="10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0A6A2-447C-48BA-B476-49C1EBE44D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goals of the principal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your ow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and refine th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FBBF-EF3F-4B31-866B-880CF0F435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3520" y="178920"/>
            <a:ext cx="842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keholder Management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24000" y="562464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 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5"/>
          <p:cNvGrpSpPr/>
          <p:nvPr/>
        </p:nvGrpSpPr>
        <p:grpSpPr>
          <a:xfrm>
            <a:off x="2089080" y="1019160"/>
            <a:ext cx="5834160" cy="5148360"/>
            <a:chOff x="2089080" y="1019160"/>
            <a:chExt cx="5834160" cy="5148360"/>
          </a:xfrm>
        </p:grpSpPr>
        <p:grpSp>
          <p:nvGrpSpPr>
            <p:cNvPr id="128" name="Group 24"/>
            <p:cNvGrpSpPr/>
            <p:nvPr/>
          </p:nvGrpSpPr>
          <p:grpSpPr>
            <a:xfrm>
              <a:off x="2089080" y="1019160"/>
              <a:ext cx="5834160" cy="5148360"/>
              <a:chOff x="2089080" y="1019160"/>
              <a:chExt cx="5834160" cy="5148360"/>
            </a:xfrm>
          </p:grpSpPr>
          <p:sp>
            <p:nvSpPr>
              <p:cNvPr id="129" name="Oval 5"/>
              <p:cNvSpPr/>
              <p:nvPr/>
            </p:nvSpPr>
            <p:spPr>
              <a:xfrm>
                <a:off x="2235240" y="1019160"/>
                <a:ext cx="5688000" cy="5148360"/>
              </a:xfrm>
              <a:prstGeom prst="ellipse">
                <a:avLst/>
              </a:prstGeom>
              <a:solidFill>
                <a:srgbClr val="fffff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23"/>
              <p:cNvGrpSpPr/>
              <p:nvPr/>
            </p:nvGrpSpPr>
            <p:grpSpPr>
              <a:xfrm>
                <a:off x="2089080" y="1230480"/>
                <a:ext cx="5761080" cy="4727520"/>
                <a:chOff x="2089080" y="1230480"/>
                <a:chExt cx="5761080" cy="4727520"/>
              </a:xfrm>
            </p:grpSpPr>
            <p:sp>
              <p:nvSpPr>
                <p:cNvPr id="131" name="Oval 6"/>
                <p:cNvSpPr/>
                <p:nvPr/>
              </p:nvSpPr>
              <p:spPr>
                <a:xfrm>
                  <a:off x="4202280" y="2851200"/>
                  <a:ext cx="1549440" cy="1479600"/>
                </a:xfrm>
                <a:prstGeom prst="ellipse">
                  <a:avLst/>
                </a:prstGeom>
                <a:solidFill>
                  <a:srgbClr val="fffff7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7"/>
                <p:cNvSpPr/>
                <p:nvPr/>
              </p:nvSpPr>
              <p:spPr>
                <a:xfrm>
                  <a:off x="4199040" y="3200400"/>
                  <a:ext cx="1531800" cy="81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Management Tea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Text Box 8"/>
                <p:cNvSpPr/>
                <p:nvPr/>
              </p:nvSpPr>
              <p:spPr>
                <a:xfrm>
                  <a:off x="4081680" y="1371600"/>
                  <a:ext cx="1922400" cy="66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9"/>
                <p:cNvSpPr/>
                <p:nvPr/>
              </p:nvSpPr>
              <p:spPr>
                <a:xfrm>
                  <a:off x="5632560" y="2076480"/>
                  <a:ext cx="1922400" cy="93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Gather Information on Stakehold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0"/>
                <p:cNvSpPr/>
                <p:nvPr/>
              </p:nvSpPr>
              <p:spPr>
                <a:xfrm>
                  <a:off x="4599000" y="4756320"/>
                  <a:ext cx="1920960" cy="12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etermine Stakeholder Strengths &amp; Weakness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11"/>
                <p:cNvSpPr/>
                <p:nvPr/>
              </p:nvSpPr>
              <p:spPr>
                <a:xfrm>
                  <a:off x="2606760" y="2076480"/>
                  <a:ext cx="1917720" cy="120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mplement Stakeholder Management Strateg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12"/>
                <p:cNvSpPr/>
                <p:nvPr/>
              </p:nvSpPr>
              <p:spPr>
                <a:xfrm>
                  <a:off x="5931000" y="3627360"/>
                  <a:ext cx="1919160" cy="9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s’ Miss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13"/>
                <p:cNvSpPr/>
                <p:nvPr/>
              </p:nvSpPr>
              <p:spPr>
                <a:xfrm>
                  <a:off x="2089080" y="3487680"/>
                  <a:ext cx="1919520" cy="9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redict Stakeholder Behavio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4"/>
                <p:cNvSpPr/>
                <p:nvPr/>
              </p:nvSpPr>
              <p:spPr>
                <a:xfrm>
                  <a:off x="2975040" y="4546440"/>
                  <a:ext cx="1917720" cy="93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entify Stakeholder Strateg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15"/>
                <p:cNvSpPr/>
                <p:nvPr/>
              </p:nvSpPr>
              <p:spPr>
                <a:xfrm flipH="1" flipV="1">
                  <a:off x="3862440" y="1300320"/>
                  <a:ext cx="811440" cy="162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6"/>
                <p:cNvSpPr/>
                <p:nvPr/>
              </p:nvSpPr>
              <p:spPr>
                <a:xfrm flipV="1">
                  <a:off x="5338800" y="1230480"/>
                  <a:ext cx="811440" cy="169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17"/>
                <p:cNvSpPr/>
                <p:nvPr/>
              </p:nvSpPr>
              <p:spPr>
                <a:xfrm flipV="1">
                  <a:off x="5781600" y="3134880"/>
                  <a:ext cx="2068560" cy="281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8"/>
                <p:cNvSpPr/>
                <p:nvPr/>
              </p:nvSpPr>
              <p:spPr>
                <a:xfrm>
                  <a:off x="5559480" y="4122720"/>
                  <a:ext cx="1330200" cy="1409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20"/>
                <p:cNvSpPr/>
                <p:nvPr/>
              </p:nvSpPr>
              <p:spPr>
                <a:xfrm flipH="1">
                  <a:off x="2679480" y="3911760"/>
                  <a:ext cx="1623960" cy="1055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21"/>
                <p:cNvSpPr/>
                <p:nvPr/>
              </p:nvSpPr>
              <p:spPr>
                <a:xfrm flipH="1" flipV="1">
                  <a:off x="2311200" y="3206880"/>
                  <a:ext cx="1919160" cy="2095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Line 19"/>
            <p:cNvSpPr/>
            <p:nvPr/>
          </p:nvSpPr>
          <p:spPr>
            <a:xfrm flipH="1">
              <a:off x="4389120" y="4305600"/>
              <a:ext cx="369720" cy="1762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4355-D6BD-435A-A7CD-74A54119A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46040" y="145692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three key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s formal repor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levels 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into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s into the tot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of system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across depar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8B74-C96E-44F1-B031-4DD38BE5F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0:53:58Z</dcterms:created>
  <dc:creator>Geoff Willis</dc:creator>
  <dc:description/>
  <dc:language>en-US</dc:language>
  <cp:lastModifiedBy>KS</cp:lastModifiedBy>
  <dcterms:modified xsi:type="dcterms:W3CDTF">2009-08-15T22:13:41Z</dcterms:modified>
  <cp:revision>48</cp:revision>
  <dc:subject/>
  <dc:title>The Organizational Context: Strategy, Structure, and Culture</dc:title>
</cp:coreProperties>
</file>